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3003213" cy="9752013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9440" y="390240"/>
            <a:ext cx="11704320" cy="16254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Chapter 4 State Changes </a:t>
            </a:r>
            <a:endParaRPr b="0" lang="en-US" sz="6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9440" y="2274840"/>
            <a:ext cx="11704320" cy="64375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Professional Education Plan (Every 3 Years)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Induction Plan (Every 6 Years)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Student Services Plan (Every 6 Years)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Special Education Plan (Every 3 Years)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  <a:p>
            <a:pPr marL="48744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Gifted Education Plan (Every 6 Years) 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1"/>
          <a:stretch/>
        </p:blipFill>
        <p:spPr>
          <a:xfrm>
            <a:off x="406440" y="457200"/>
            <a:ext cx="1196352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16080" indent="-3160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Promote equity in education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16080" indent="-3160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reate global learners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16080" indent="-3160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Accept our communities diversity 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16080" indent="-3160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Every student learns and values Education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16080" indent="-3160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know the learner and guide 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marL="316080" indent="-3160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ster perserverence toward high standards and success 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3225960" y="5335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Beliefs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Mission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0880" indent="-38088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afe, nurturing, and engaging environment where students will receive a rigorous and repsponsive education that will empower them to compete globally. 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Bigger</cp:lastModifiedBy>
  <dcterms:modified xsi:type="dcterms:W3CDTF">2012-09-26T18:09:59Z</dcterms:modified>
  <cp:revision>5</cp:revision>
  <dc:subject/>
  <dc:title>Chapter 4 State Changes </dc:title>
</cp:coreProperties>
</file>